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ED2-B95C-4E38-B557-8A7D874D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87D-FED9-4B25-A466-455D174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422-0632-45B7-AA36-BD1FA323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8A1-F008-49C4-BEEC-E8E7F8F9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5668-A2F9-4A47-A28C-109815F1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6286-74F6-46FB-A24E-B1E6884A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8E1E-8C8C-4339-95FC-4B7A3D47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E113-EBA4-4CC9-936D-02BF90F3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2746-0A51-48E2-86DA-FBB5EE1E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2C42-2BF8-45FE-8482-68896C77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50B2-B8B7-4CC0-B409-FE73AFE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E25-DB2A-42F6-81C1-4F31EBC7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E906-A853-4B3A-8771-87E89AD2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321F-5409-4DAA-804A-980388F2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2F1A-64AE-4A30-9C58-BFE00D21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CD1E-5493-4538-BFA4-1E7B707C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24C6-D133-4013-9F69-6F5CA23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E54-E2CE-4719-9E51-C3A4C8D0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E19-29D5-41A7-9A6F-09E7424A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A75-2606-485F-AA2A-43CB01BE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6D3-5EE0-43DC-8D07-B2A0E511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EFE-6C44-47C8-8D46-32C5248C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B04-CEE0-4B03-BA5A-B3B0F20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717-2750-43B5-94DE-43416856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E62A-B408-4016-AB51-1709DBDAB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4145-D170-4AC4-964A-141A4775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1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al Numbers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dentify all sets of real numbers and the elements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bers come in many forms: integers, fractions, decimals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classify these numbers into six different “number se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atur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Natural Numbers (N) – are the counting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1,2,3,4,...78,79,….,223,224,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le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Whole Numbers (W) – are zero and the Natu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0,1,2,3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Integers (I or Z) – are Whole Numbers and their op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…-3,-2,-1,0,1,2,3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ation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Rational Numbers (Q) – are numbers that can be written as a fraction or decimal (either terminating or repea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…-5/6, -1/2, 0/6, 1.2, 3.555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rration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Irrational Numbers (Ir) – a number whose decimal does NOT terminate or repeat/cannot be written as a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.212112111211112…….,       ,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Arial"/>
              </a:rPr>
              <a:t>π,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24480" y="4114800"/>
                <a:ext cx="648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Real Numbers (R) – all rational and irrationa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ssify each numb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91320" y="1981080"/>
            <a:ext cx="27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, Q,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, Q, I, W,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,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, Q, I,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905120"/>
            <a:ext cx="13716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76520" y="4267080"/>
          <a:ext cx="609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267080"/>
                    <a:ext cx="609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7:38:55Z</dcterms:created>
  <dc:creator>PA Department of Education</dc:creator>
  <dc:description/>
  <dc:language>en-US</dc:language>
  <cp:lastModifiedBy>Parkland High School</cp:lastModifiedBy>
  <dcterms:modified xsi:type="dcterms:W3CDTF">2010-09-09T12:22:16Z</dcterms:modified>
  <cp:revision>6</cp:revision>
  <dc:subject/>
  <dc:title>Unit 1   Section 1.1 Number Sets  </dc:title>
</cp:coreProperties>
</file>